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EC06-54D3-4DCA-A7B6-F89F10D61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EC80-08B0-4D99-B428-C565348DD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2CA5-C09E-469B-8CB2-44B61577A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2E93-BF3D-48D2-A0A0-7C954D137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29334-AB6D-4D53-BEA8-5112CEDD3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38745-0575-4150-B5FC-F213DCCB7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47FDE-F790-4DCF-8266-08E76BC67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F3194-68BF-4533-BA6D-5038655E9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46C3A-A03D-4BC1-92FD-7D1BBD2A5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6807F-92CD-4051-9D6C-9EDDF4EE1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172D6-FB41-4B88-8282-215CB9209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B054-B489-4891-B9D3-CF66CE1F7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4E359-2628-4941-A9F3-11FFEA33D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FD6A5-B472-4CDF-8C46-BB77CCA7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12728-652D-4327-AFF9-1C515DAC9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2AA4E-2460-48DD-AE4F-02C5F5890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885F5-9E52-4E0F-9B21-1B88C9D41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677A-6418-4D2D-A64E-2117ADBF1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1418-A781-45C6-AA48-E7BBFBEF2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E143-9540-4458-AFFF-0D552D084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11B2-B353-4F75-8EE6-BA01A2BB9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224E-6385-4E8B-A7F0-2F5AEA4C2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B507-0AAA-4DEF-B945-B66AD7C7A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16E3-81DB-4ED7-848F-56675CADB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B5341-E491-4D66-AC57-A0665A90B59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F42DF-02D9-4BED-AC4E-98BF06891BDF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2133720"/>
            <a:ext cx="8153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ulti-Modal Input for Navigating in Virtual Environment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 Randy Levensal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ranav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andard program for navigating and viewing objects in the CAV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ragon Naturally Speak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liable and Availab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an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 almost every CAV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Usability Test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c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are navigation with standard input versus voice and point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i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quired concentr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ctual Tes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vigate through a model of Princeton WV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me tasks with both type of inpu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ime the use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Questionnai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oice recognition software lag and inaccuracy render voice nearly ineffectiv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oice and pointing are more intuitiv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inting at a distant location diverges and requires correc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ttons can be confus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Further Research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etter voice recogn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tend to Manipul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corporate Gestur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fini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wo Typ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hat to D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here to Do I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hy Navig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hat Two Mod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mplement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ability Test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ctual Tes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urther Researc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hat is Multi-Modal Inpu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put which is gathered using at least two different means of data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Use multiple modes to communicate with other peop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hy Multi-Modal Input in VE’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urrent input devices for Virtual Environments are limit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Use a keyboard while stand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ral degrees of freedo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wo Types of Input are Neede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at to d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ere to do 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hat to Do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at task needs to be perform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siz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lec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t well supported with only a pointing device and a few butt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or scalabilit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consist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here to Do I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ere the task needs to be perform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ow / to what extent does the task need to be perform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t well supported by keyboard or other text input devic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hy Navi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asis for all virtual environ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airly simple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good starting poi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rictly follows the two forms of inpu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hat Two Mod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oic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hat to d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an do it while stand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ight apparat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atural to say what you want to d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int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here to do i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atural to point where you want to g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7T21:08:59Z</dcterms:created>
  <dc:creator>Randy T. Levensalor</dc:creator>
  <dc:description/>
  <dc:language>en-US</dc:language>
  <cp:lastModifiedBy>Randy T. Levensalor</cp:lastModifiedBy>
  <dcterms:modified xsi:type="dcterms:W3CDTF">2000-04-17T21:45:24Z</dcterms:modified>
  <cp:revision>5</cp:revision>
  <dc:subject/>
  <dc:title>Multi-Modal Input for Navigating in Virtual Environments</dc:title>
</cp:coreProperties>
</file>